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6455-5508-4D21-B8BB-AFEDD5266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BC51-4639-42D9-991A-3BB7A41409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 gives info about a site; copy and paste the url into alexa’s search 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s you about traffic, reviews, site stats, contact and ownership of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bar- buttons on browser; shortcuts for comm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che- temp Internet files- saves images; speeds up load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bon- a new form of tool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L- a web site or page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vorites- shortcuts saved on a computer to allow quick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- programs that attack files or other programs; collect data from user and send it to another for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kie- info that is stored in your computer and send to other servers giving your preferences and personal info; no re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- shortcut connection to another web pages, site or other piece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g in- a small program needed to run an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5759-D05A-469C-A261-0F62073AAB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 engines- search databases not the WWW; different search engines give different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- catalog (directory), review info, conceptual (big pi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A044-A69B-4391-AC11-6B7EE563A6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6DC2-51E1-455A-975E-C4ACA6E8BB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8F56-61E1-49FB-AB7E-8FA43A3B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3A9-1FFA-4DFD-8F18-CD133000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6CBF-8693-4CB3-B3AD-C385CA9A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6FA4-07F0-4748-A7CA-1C382D8B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6D0A-752A-4DB3-A175-809F6E8E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342B-C426-4A21-BEFF-4FFC514A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B4E9-AC97-491E-9822-D6932E8A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EF89-5F59-4167-BFB4-58930290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B17F-47F4-4D3D-BFB4-EC0F2FEB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EF98-33F9-45E5-A106-B9975415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89F4-4F9A-4806-AF1F-8B917FDC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697-500C-496F-BA41-A58C04C3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5E66-4B0D-4F63-8636-3B070C5D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CC1E-BB13-46D9-99F6-4102C186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9192-FFFD-48C2-A09A-5168EDC1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9D06-6B9F-4627-ACBE-66BFFD30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5CA8-94A4-4B84-B5C7-6E08E433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CD24-EA67-4B74-AC48-556EA87E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2A7-202D-4CD8-B27B-6734D1C0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77CC-84B9-43DE-9228-D23E0639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5E77-26A2-4560-8E3A-BEA257A7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899D-8A0D-47EE-934E-74D8CCE7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F19E-D679-40C1-9ECD-B07D6248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11B-362E-47F2-ADF4-9FE18EB7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8A24-90AF-4FCF-9183-7F1E7FF0F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4EA2-00CC-41DB-AC84-A5C4E084E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ib.nmsu.edu/instruction/evalcrit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earchenginewatch.com/" TargetMode="External"/><Relationship Id="rId2" Type="http://schemas.openxmlformats.org/officeDocument/2006/relationships/hyperlink" Target="http://www.yahoo.com/" TargetMode="External"/><Relationship Id="rId3" Type="http://schemas.openxmlformats.org/officeDocument/2006/relationships/hyperlink" Target="http://www.ask.com/" TargetMode="External"/><Relationship Id="rId4" Type="http://schemas.openxmlformats.org/officeDocument/2006/relationships/hyperlink" Target="http://excite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ib.nmsu.edu/instruction/evalcrit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ib.berkeley.edu/TeachingLib/Guides/Internet/MetaSearch.html" TargetMode="External"/><Relationship Id="rId2" Type="http://schemas.openxmlformats.org/officeDocument/2006/relationships/hyperlink" Target="http://www.enursescribe.com/metasearch.htm" TargetMode="External"/><Relationship Id="rId3" Type="http://schemas.openxmlformats.org/officeDocument/2006/relationships/hyperlink" Target="http://www.blueangels.net/metalist.html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bi.gov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he ABC’s of the Internet and the World Wide  Web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to use the Internet and the WWW to find trustworthy and useable infor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B’s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site present the information correct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it present a link to the sponsoring agenc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it have advertising for unrelated inform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it present both sides of an issu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meant to inform or to persuad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B’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ite meant to do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uca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tai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ua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itu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com - commercial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gov - government ag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org - organ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mil- military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us - coun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edu – higher edu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net - internet service provi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C’s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8455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information used and presented correctl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e graphics and design appropriate and corre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age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cov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it related to what was search f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information found in several places or is it found only he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it have value to you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page dated? What do the dates tell you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page updated oft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all the links work or have they expi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C’s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120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 list of sources for searchers to access for more inform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the information on the site be verified from another sour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site and the information clear and easy to see, read and understa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ere errors in grammar, spelling, mechanics, or usa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 copyright listed somewhe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 you cite the source if you used information from the si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 sit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The Good, The Bad and The Ugly- Website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Schrock’s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es to use for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fety-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ersonal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sted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ud detector (.go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ources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40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k, Susan. “Evaluation Criteria.”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good, The Bad &amp; The Ugly: or, Why It’s a Good Idea to Evaluate Web Sources. 1997. http://lib.nmsu.edu/instruction/evalcrit.htm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ock, Kathy. “Th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Cs of Website Evaluation.”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assroom Conn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Dec. 1998/ Jan. 1999. 1-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ng Web Sites.”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ahooligans Teachers’ Guide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2. http://yahooligans.yahoo.com/tg/evaluatingwebsites.htm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ker, Joe. “Evaluating Web Pages: Techniques to Apply &amp; Questions to Ask.”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inding Information on the Internet: A Tutorial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5. www.lib.berkeley.edu/TeachingLib/Guides/Internet/Evaluate.htm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.TUTOR: Evaluating Web Sites.”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et.TUTOR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5. http://gateway.lib.ohoi-state.edu/tutor/les1/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ources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69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ng Web Sites.”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sley University Librar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005. http://www.lesley.edu/library/guides/research/evaluating_web.htm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onents of the Interne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 Wide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ut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servs- subscription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- network of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 Wide Web - collection of docu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ocabula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bb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(Uniform Resource Lo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vor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s (worm, trojans, spy/ad 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k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arching the ne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647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wser- format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scape Navig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95680" y="19047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engines- loc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key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,or and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, -, or, “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“of”, “the”, “in”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 URL (web addr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searchenginewatch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Yaho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As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Exci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arching the net –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- infor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ddr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els specifics sites or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lib.nmsu.edu/instruction/evalcrit.htm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icates a personal web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iqu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ec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the FAQ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P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 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subject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 sp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ard priv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Meta search engine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The list of the b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Mega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eb page Versus Web Si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pa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links to other pages or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ins several U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A’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you enter the site repeated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it load quick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move around the web site easi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 reliable spons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fbi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u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information checked or verified by some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information match what other sites pres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A’s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40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author lis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you talk to him/h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 biography of the auth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author credible and an expert in this are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he/she have credential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up-to-date with the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pr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it suit the audience it is intended f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ea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it look well put togeth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you read it and find what you need easi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8:02:01Z</dcterms:created>
  <dc:creator>High School</dc:creator>
  <dc:description/>
  <dc:language>en-US</dc:language>
  <cp:lastModifiedBy>hansenste</cp:lastModifiedBy>
  <dcterms:modified xsi:type="dcterms:W3CDTF">2008-03-03T21:31:03Z</dcterms:modified>
  <cp:revision>63</cp:revision>
  <dc:subject/>
  <dc:title>The ABC’s of Website Evaluation</dc:title>
</cp:coreProperties>
</file>